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10.png" ContentType="image/png"/>
  <Override PartName="/ppt/media/image2.wmf" ContentType="image/x-wmf"/>
  <Override PartName="/ppt/media/image3.jpeg" ContentType="image/jpeg"/>
  <Override PartName="/ppt/media/image4.jpeg" ContentType="image/jpeg"/>
  <Override PartName="/ppt/media/image5.wmf" ContentType="image/x-wmf"/>
  <Override PartName="/ppt/media/image12.jpeg" ContentType="image/jpeg"/>
  <Override PartName="/ppt/media/image6.jpeg" ContentType="image/jpeg"/>
  <Override PartName="/ppt/media/image7.wmf" ContentType="image/x-wmf"/>
  <Override PartName="/ppt/media/image8.jpeg" ContentType="image/jpeg"/>
  <Override PartName="/ppt/media/image9.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862D-396F-48DA-8A87-E7CB0C411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08DA-AE13-4B6E-9E0A-ED2EBA1B7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ng Positive Youth Development through Physical Develop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e active, healthy, and happy!” – </a:t>
            </a:r>
            <a:r>
              <a:rPr b="0" i="1" lang="en-US" sz="800" spc="-1" strike="noStrike">
                <a:solidFill>
                  <a:srgbClr val="000000"/>
                </a:solidFill>
                <a:latin typeface="Arial"/>
              </a:rPr>
              <a:t>Physical Activity Guidelines for America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 theory in this training… thank you, thank you!</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opportunity to foster discussion related to a child’s feelings of acceptance in their foster family, school, commun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in foster care carries the residual shame, fears, anger, guilt, and resentment of the loss of the original family as well as surviving the abuse/neg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2E4E-3B4D-45D5-84CE-457129AE3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B778-CD01-493D-9CD4-282CF8B33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ing weight — Your weight will stay the same when the calories you eat and drink equal the calories you bur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ing weight — You will lose weight when the calories you eat and drink are less than the calories you bur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ing weight — You will gain weight when the calories you eat and drink are greater than the calories you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7DFD-B85E-4FB4-B5B4-926603E28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MyPlate (distribute brochu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calories – determine caloric nee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 contro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versized por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to eat more oft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half your plat fruits and vegetab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fat-free or low-fat mi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half of grains whole gra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to eat less oft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sodium in foo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 water instead of sugary dr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8776-22F2-42EE-AA6E-735B741EE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s (distribute PlanPurchasePrepare handou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start (distribute meal pl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5B9D-1781-44CC-B962-49EF0303C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activity is an essential component of a healthy lifestyle.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mbination with healthy eating, it can help prevent a range of chronic diseases, including heart disease, cancer, and stroke, which are the three leading causes of death.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activity helps control weight, builds lean muscle, reduces fat, promotes strong bone, muscle and joint development, and decreases the risk of obesity.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need 60 minutes of play with moderate to vigorous activity every day to grow up to a healthy weigh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is sounds like a lot, consider that eight to 18 year old adolescents spend an average of 7.5 hours a day using entertainment media including TV, computers, video games, cell phones and movies in a typical day, and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one-third of high school students get the recommended levels of physical activity.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ncrease physical activity, today’s children need safe routes to walk and bike ride to school, parks, playgrounds and community centers where they can play after school, and activities like sports, dance or fitness programs that are exciting and challenging enough to keep them engage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et’s Move!</a:t>
            </a:r>
            <a:r>
              <a:rPr b="0" lang="en-US" sz="1000" spc="-1" strike="noStrike">
                <a:solidFill>
                  <a:srgbClr val="000000"/>
                </a:solidFill>
                <a:latin typeface="Arial"/>
              </a:rPr>
              <a:t> aims to increase opportunities for kids to be physically active, both in and out of school and to create new opportunities for families to move togeth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180D-E4EE-456B-9C49-811B914C2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ive Families (distribute be an active family handou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gaging in physical activity as a family can be a fun way to get everyone moving.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ies show that kids who believe they are competent and have the skills to be physically active are more likely to be active.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ose who feel supported by friends and families to become active, or surrounded by others interested in physical activity, are more likely to participat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ldren need 60 minutes of play with moderate to vigorous activity every day, but it doesn't have to occur at once. It all adds up!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remember, sleep is just as important and is an essential part of living an active life. A recent study found that with each extra hour of sleep, the risk of a child being overweight or obese dropped by nine percen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are a few activities and steps that you and your family can consider to get started on a path to a healthier lifestyl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 children toys that encourage physical activity like balls, kites, and jump rop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urage children to join a sports team or try a new physical activit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TV time and keep the TV out of a child’s bedroom.</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ilitate a safe walk to and from school a few times a week.</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the stairs instead of the elevator.</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lk around the block after a mea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a new house rule: no sitting still during television commercial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d time to spend together doing a fun activity: family park day, swim day or bike da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 a family challenge to see who can be the first to achieve a Presidential Active Lifestyle Award by committing to physical activity five days a week, for six weeks. Adults and children can both receive the awar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to your children’s principal or write a letter to your district superintendent to incorporate more physical education in school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urage schools to hold recess prior to lunch to increase physical activity before mealtim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nteer to help with afterschool physical activity programs or sports team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ure that children get the sleep they need. Most children under age five need to sleep for 11 hours or more per day, children age five to 10 need 10 hours of sleep or more per day, and children over age 10 need at least nine hours per da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 how engaging in outside activities can be fun and affordable for families through </a:t>
            </a:r>
            <a:r>
              <a:rPr b="0" i="1" lang="en-US" sz="800" spc="-1" strike="noStrike">
                <a:solidFill>
                  <a:srgbClr val="000000"/>
                </a:solidFill>
                <a:latin typeface="Arial"/>
              </a:rPr>
              <a:t>Let’s Move Outside</a:t>
            </a:r>
            <a:r>
              <a:rPr b="0" lang="en-US" sz="800" spc="-1" strike="noStrike">
                <a:solidFill>
                  <a:srgbClr val="000000"/>
                </a:solidFill>
                <a:latin typeface="Arial"/>
              </a:rPr>
              <a:t>, which promotes a range of healthy outdoor activities for children and families across the country.</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B9A7-1697-43C8-B75E-115AFD1BF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s and caregivers can set a great example for the whole family by creating a healthy environment at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y combination of steps-making fruits and vegetables part of every meal, limiting treats, walking and playing, even shopping together—can add up to make a real difference i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F0D5-2D2A-44C2-874F-6488D88A5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Move! Campaig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Move! is a comprehensive initiative, launched by the First Lady, dedicated to solving the challenge of childhood obesity within a generation, so that children born today will grow up healthier and able to pursue their dreams. Combining comprehensive strategies with common sense, Let's Move! is about putting children on the path to a healthy future during their earliest months and years. Giving parents helpful information and fostering environments that support healthy choices. Providing healthier foods in our schools. Ensuring that every family has access to healthy, affordable food. And, helping kids become more physically activ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has a role to play in reducing childhood obesity, including parents, elected officials from all levels of government, schools, health care professionals, faith-based and community-based organizations, and private sector companies. Your involvement is key to ensuring a healthy future for our childr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3D21-7405-41FE-A41D-529B008FD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Simple Steps to Succes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fresh fruit in a bowl within your child’s reach to grab as a snack on the go.</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nk Color – Fruits and vegetables are great sources of many vitamins and minerals and can help prevent chronic diseases. Try eating fruits and vegetables of different colors to give your family a wide range of valuable nutrients like fiber, folate, potassium, and vitamins A and C. Some examples include green spinach, orange sweet potatoes, black beans, yellow corn, purple plums, red watermelon, and white onions. Encourage children to try new fruits and vegetables regularl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ldren and families tend to consume more of the foods that they have easy access to. Keep fruits and vegetables within reach and you’re more likely to make healthy choic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 Replace a candy dish with a fruit bow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 Store especially tempting foods, like cookies, chips, or ice cream, out of immediate eyesight, like on a high shelf or at the back of the freezer. Move the healthy food to the front at eye leve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 fruit raw to enjoy its natural sweetnes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ed or frozen fruits and vegetables are good options when fresh produce is not available. Be careful to choose those without added sugar, syrup and cream sauc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whole fruit over fruit drinks and juices. Fruit juices have lost fiber from the fruit. It’s better to eat the whole fruit because it contains the added fiber that helps you feel ful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a walk with your family after dinner.</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Physical Activity a Part of Your Family's Routine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t Goals –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your family establish goals that everyone can achieve together. In the first few weeks, you may not achieve every goal, but if you stick with it, physical activity will become a part of your family’s routin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effective goals that are specific, achievable and forgiving. Rather than saying you will exercise more, set a goal like walking for 30 minutes a day, three times a week.</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 a family challenge to see who can be the first to achieve a Presidential Active Lifestyle Award (PALA) by committing to physical activity five days a week, for six wee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 Effective goals are specific, achievable and forgiving. "Exercise more" is a great idea, but "take a 30 minute walk" is more specific and easier to achieve.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hedule Your Activit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est way to begin increasing your family’s physical activity is to schedule time for it. Start by identifying at least three 30-minute time slots this week for activities like taking a walk, playing sports or doing active chores. Choose times of the day or week when everyone is most likely to stick to the schedu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r achievements; every little bit count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lexib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 conflict comes up during physical activity time, reschedule instead of canceling. Find a new time for the activity to replace what you misse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are i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keep the momentum going, share your new ideas, activities and tools with friends, neighbors and relatives. Invite them to join in and get moving too!</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as to Get Started</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countless ways to enjoy physical activity together as a family. You can download the </a:t>
            </a:r>
            <a:r>
              <a:rPr b="0" i="1" lang="en-US" sz="800" spc="-1" strike="noStrike">
                <a:solidFill>
                  <a:srgbClr val="000000"/>
                </a:solidFill>
                <a:latin typeface="Arial"/>
              </a:rPr>
              <a:t>Let’s Move</a:t>
            </a:r>
            <a:r>
              <a:rPr b="0" lang="en-US" sz="800" spc="-1" strike="noStrike">
                <a:solidFill>
                  <a:srgbClr val="000000"/>
                </a:solidFill>
                <a:latin typeface="Arial"/>
              </a:rPr>
              <a:t> Family Activities Guide for more ideas like those listed her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y tag, swim, toss a ball, jump rope, hula-hoop, dance to music or even play a dancing video game. It doesn’t have to be sports—just get your family moving!</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lk the dog, go for a jog, go on a bike ride, take the stairs or head to the park and let kids run around for a whi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ebrate special occasions—like birthdays or anniversaries—with something active, such as a hike, a volleyball or soccer game or playing Frisbee at the park.</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he whole family involved in household chores like cleaning, vacuuming, and yard work.</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lk instead of drive whenever you can. If you have to drive, find a spot at the far end of the parking lot and walk to where you’re going.</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k farther away and count with your children the number of steps from the car to your destination. Write it down and see if you can park even farther away on your next sto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 as a family for a charity walk or ru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 a menu for the week.  Get children involved in planning and cooking.</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 a Healthy Mea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y decisions start at home. Planning ahead can improve your health while saving you time and money. Get children involved in planning and cooking too and you’ll be surprised by how easy making healthy changes can b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ing nutritious meals in right-size portions will help you and your family be healthier and will give you the energy you need to get through the day. Preparing healthy meals doesn’t have to be difficult or expensive—it just takes planning.</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t down as a family and plan your healthy meals for the week, and then have everyone make suggestions for the shopping list. Kids (and adults too!) are more willing to try new foods when they help pick the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e you’ve planned your shopping list, be sure to stick to it! Shopping from a list instead of waiting to make choices at the grocery store saves you both time and money. Get ideas for healthy choices and make your next shopping trip easier by using the Let’s Move grocery list template to plan your next shopping trip.</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 Healthy Breakfas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sure your family eats a healthy breakfast every day. In addition to being a good way to start the day, a nutritious breakfast can help prevent overeating and snacking later in the day. Offer children options like whole-grain cereal with low-fat or fat-free milk, oatmeal or fruit to start the day off right.</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y Breakfast Idea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r low-fat or fat-free granola into a bowl of low-fat or fat-free yogurt. Top with sliced apples or berri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strawberries, blueberries or bananas to whole-grain waffles, pancakes, cereal, oatmeal or toas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toasted whole-grain bread with a thin layer of peanut butter and sliced banana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vegetables like bell peppers, broccoli, spinach, mushrooms or tomatoes to an egg or egg white omele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orporate canned, dried and frozen fruits and vegetables into your breakfast menu. Look for fruit without added sugar or syrups, and vegetables without added salt, butter or cream sauc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Back on Sugary Drin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ing your family’s sugar intake is as easy as making different choices about what your family drinks. Sugar-sweetened beverages are sources of liquid sugar that don’t fill us up. By drinking water instead of beverages with added sugar, your family will be one sip closer to better health.</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as for Healthier Drin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get more vitamins and minerals, switch to low-fat milk or 100% fruit juic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decrease sugar intake, switch to water or dilute 100% fruit juic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an Eye on Portion Siz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ore you know about serving sizes, the more you will be able to help yourself and your family eat a healthy amount of food. Start off serving a small portion, kids can have seconds if they are still hungry. Know when servings are larger than needed and teach children to eat only what they need at each meal. For example, provide portions equal to the size of the back of a fist-a child’s fist for a child’s portion. Serving sizes are also important to consider for beverages-a serving size for sodas, sports drinks, fruit drinks, and smoothies should fit in a small coffee cup.</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as for Eating Healthy Portion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ust your body to tell you when you’ve had enough, but remember that it takes about 20 minutes for your body to signal to your brain that you’re ful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 more about portion sizes from the Food Pyrami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 Together as a Famil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families sit down and eat together, children are more likely to eat more fruits and vegetables and fewer junk foods. Eating together is also a chance to model good behavior and regularly scheduled meal and snack times help kids learn structure for eating. So, keep the television off and spend time eating and talking together around the tab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smaller plates and bowls at hom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y smaller packages of snack food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n’t force kids to clean their plates if they are ful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atch cook” and divide prepared recipes into the number of servings specified before eating. Save or freeze leftover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 out standard servings and always eat from a bowl or plate. Eating from the carton or bag makes it easy to lose track of your portions and can cause you and your family members to have too much.</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urn of the TV during meals and share some family tim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ents and caregivers should set rules that reduce “screen time” by limiting the amount of time children spend on the computer, watching TV and playing video games. The time spent in front of the screen could be better spent being more physically active.</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to Your Famil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lain to children that it’s important to sit less and move more in order to stay healthy. Health experts suggest no more than two hours of computer or television time per day unless it’s related to work or homework. Children younger than two should be kept away from the TV entirely. Don’t use TV time as reward or punishment; practices like this make TV seem even more important to children.</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Screen Time Limits and a Good Examp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 house rule that limits screen time to one to two hours every day. More importantly, enforce the ru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need to be a good role model and limit your screen time to no more than two hours per day, too. If your kids see you following your own rules, they’re more likely to do the sam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 Screen Time vs. Active Tim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get a sense of what changes may need to be made in your household, track your family’s screen time and active time. First, log how much time your family spends in front of a screen, including things like watching TV and movies, playing video games and using the computer (outside of school or work). Then, look at how much time the family spends doing physical activities, such as walking, doing active chores or playing sports together. If you see that your family logs more hours in front of the screen than being active, sit down together and set goals to increase your physical activit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the Let’s Move screen time log to track how much time everyone is spending in front of a screen. To set goals for your family’s physical activity, use the Let’s Move Goal Tracker.</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ctive During Screen Tim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you spend time in front of the screen, do something active. Stretch, practice yoga poses, walk on a treadmill, or lift weights. Challenge the family to see who can do the most push-ups or jumping jacks during commercial break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 TV Ad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ing snack foods, candy, soda and fast food on television affects all of us-especially children. Help children understand that just because it’s on TV-or their favorite TV characters eat or drink it-doesn’t mean it’s good for you.</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Screen-free Bedroom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n’t put a TV or computer in your child’s bedroom. Kids who have TVs in their rooms tend to watch about 1.5 hours more of TV per day than those who don’t. In addition, having a TV in their bedroom can keep kids from spending time with the rest of the famil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Alternativ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ching TV can become a habit, making it easy to forget what else is out there. Give children ideas and alternatives, like playing outside, picking up a new hobby or learning a sport. See more tips for being an Active Famil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on Family Time During Meal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mily meals are a great time to talk to each other. So, turn off the TV during meals. Better yet, if you have a TV in your eating area, remove i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shows that families who eat together tend to eat more nutritious meals. Make eating together a priority and try to have family meals at least two to three times a week. Begin with breakfast–it’s a great way to start the da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to the PRIDE Coordinator, your social worker, or your principal about organizing a school health team</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chool environment strongly affects the behavior, health and well-being of children. Parents can help schools create an environment that will encourage a child’s overall academic success by taking action to encourage healthy meal options and physical activity program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in the School Health Tea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schools that receive support from the USDA are required to develop wellness policies that address school food service and physical activity. Many schools have working groups dedicated to improving the school’s health programs and policies. These working groups go by different names across the country, such as school health team, school health council, school health advisory council or wellness counci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ent members of these groups play a crucial role in creating a healthful school environment. Call your child’s school and talk to the principal or PTA president to find out if the school has an active health team. If it does, find out how you can become a member. If the school doesn’t have a health team, help organize on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 More about Your Child’s School Health Statu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chool Health Index is a self-assessment and planning tool that can be used to identify the strengths and weaknesses of health policies and programs at your child’s school. It can also help people who are interested develop an action plan for improving student health. Get started on a School Health Index for your child’s school toda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 “Competitive Food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ods and beverages provided through school breakfast, lunch and afterschool snack programs must meet certain nutritional rules to receive federal money. However, kids can purchase non-nutritious foods in place of these meals. Many schools sell foods outside of the USDA school meals–in the cafeterias, snack bars and vending machines–that are not subject to federal rules. These foods are called "competitive foods" because they compete with healthier school meals. Foods commonly available in these venues include cookies, crackers, pastries and other high-fat baked goods, as well as salty snacks and sugar-sweetened drin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portunities for children to purchase competitive foods should be limited in schools. If competitive foods are available, they should consist primarily of fruits, vegetables, whole grains and fat-free or low-fat milk and milk products. A school health team or similar organization can help establish policies that implement the nutritional standards for foods sold outside of school meal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ortance of Physical Activity in Schoo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ools are a key setting for kids to get their 60 minutes of physical activity in everyday, given the significant portion of time they spend there. Most physical activity for students can be provided through a quality physical education program and complemented by activities before, during, and after school, as well as in recess, other physical activity breaks, intramural and physical activity clubs, interscholastic sports, and walks and bike rides to school initiativ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school leaders have expressed concerns that a comprehensive physical activity program is too expensive, particularly during difficult economic times and tight budgets. However, there are many low-cost or no-cost steps that school leaders can take to improve the physical activity environment for all students and to promote student health without compromising academic pursu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9ED3-9CF2-4A65-A07C-570E7BC1D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group determine guiding principles first, then show slide after brainstorm activ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D0B9-360D-4602-86D9-723962CA5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past three decades, childhood obesity rates in America have triple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one in three children in America are overweight or obese.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s are even higher in African American and Hispanic communities, where nearly 40% of the children are overweight or obese.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on't solve this problem, one third of all children born in 2000 or later will suffer from diabetes at some point in their lives.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s will face chronic obesity-related health problems like heart disease, high blood pressure, cancer, and asthm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BA30-CD41-4B31-A825-73C01CCD1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ty years ago, most people led lives that kept them at a healthy weight. Kids walked to and from school every day, ran around at recess, participated in gym class, and played for hours after school before dinner. Meals were home-cooked with reasonable portion sizes and there was always a vegetable on the plate. Eating fast food was rare and snacking between meals was an occasional treat.</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ay, children experience a very different lifestyle. Walks to and from school have been replaced by car and bus rides. Gym class and after-school sports have been cut; afternoons are now spent with TV, video games, and the internet. Parents are busier than ever and families eat fewer home-cooked meals. Snacking between meals is now commonplac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ty years ago, kids ate just one snack a day, whereas now they are trending toward three snacks, resulting in an additional 200 calories a day. And one in five school-age children has up to six snacks a day.</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ion sizes have also exploded- they are now two to five times bigger than they were in years past. Beverage portions have grown as well- in the mid-1970s, the average sugar-sweetened beverage was 13.6 ounces compared totoday, kids think nothing of drinking 20 ounces of sugar-sweetened beverages at a tim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otal, we are now eating 31 percent more calories than we were forty years ago–including 56 percent more fats and oils and 14 percent more sugars and sweeteners. The average American now eats fifteen more pounds of sugar a year than in 1970.</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ght to 18-year old adolescents spend an average of 7.5 hours a day using entertainment media, including, TV, computers, video games, cell phones and movies, and only one-third of high school students get the recommended levels of physical activit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Now that’s the bad news. The good news is that by making just a few lifestyle changes, we can help our children lead healthier lives–and we already have the tools we need to do it. We just need the will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9BFE-7C77-43A4-AEB4-5D6F70FE2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 brainstorm discussion that talks about the different reasons why foster children may be disproportionately affected by these issu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D0CF4-8C6D-4203-8BBC-D8EC4CC36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F4BA4-D4CA-4228-9F7E-FC5A0DDFF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D3D1D-55F6-41CA-A438-766C27FEA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93845-8DBD-4F4D-BD18-E80036C67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70CCE-7583-40F6-B8D9-3191FEA343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854A7-78B6-4731-A162-F43E0455A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FEE75-F6F3-48D4-9F11-370EC46DD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F805A-45D4-431E-AF50-F24953B4C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85C17-BF65-4E93-AAE8-5A898906C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01042-3DFB-4466-8B5C-BCD007AA5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65EB3-F339-4BAA-AD87-478B51FE6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A36A5-61CE-42F8-9373-04516AF2D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27AF0-DB93-4237-A0B3-96E306E71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5B30B-89C4-4E70-9694-FE948D621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7A6BB-2E56-45E3-AC29-30EEF6F62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524728-2DCB-44C1-B4CA-B672A30B8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C2C253-507F-4C54-A333-F0856ED917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DE01DC-E2CE-4CEE-8934-C5EA416978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649F13-E9DC-4D1E-B006-DFE2A9CF6C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E5C153-C0DF-41A7-BDE7-463A1D8487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05F4AA-25F6-4C19-88E0-C016517F49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255267-72EA-439C-B35C-32916F64DF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AD6A5-927D-41C0-977D-7E4A36182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DC5446-5EE9-4AC3-9AAC-30918DE6B1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E579A-5ACD-4AFC-8A19-600610D91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FB235F-1D88-4621-B0BA-73C33C081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88994E-9F97-4ED6-830F-14E9FFF2EB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0E9B24-27D4-407A-89D4-26FCC675F3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814519-A917-4E2B-999B-AA37DED747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C3B308-B1CD-49A3-9089-43C4110430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BD6A3A-5B01-4A60-9F85-2F53D62411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85C832-1F6E-439C-B2CB-0ED93EE05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2B2F19-2F5A-4E12-91AB-7833D00C25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F9EB8-2AB2-4EE0-9E74-FA96E2D91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42AAA0-3E15-4F0F-A1D0-9872AF2974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E53C40-9E1B-4BC3-BF43-CD128B0AB1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9FE6F-0164-4BC7-9A30-26C820804A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52C230-8F03-4BED-A52E-EBDE480122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21F57D-3CF4-405B-9E4C-928A4539CB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1AD507-BE0B-4579-8F46-2C027B47D5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DC93F8-5DE3-4749-938C-BFA186C781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C37D8B-7235-466A-B4C0-B09B07DD47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B17B60-0BC6-4518-B4DF-05BF4EDFC4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B79E9-42A3-4973-8436-A8D6B398B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37711-FA31-4324-8304-A072EA2C5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612D3-9672-405B-957A-6C068D339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6614B-9192-4465-BFEA-D519B645A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0AB4D-2E0B-47C9-97FD-62176F18C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25AC-2FA7-4394-A312-06A4A13BC9FA}"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7920" y="-7920"/>
            <a:ext cx="9169560" cy="6873840"/>
            <a:chOff x="-7920" y="-7920"/>
            <a:chExt cx="9169560" cy="6873840"/>
          </a:xfrm>
        </p:grpSpPr>
        <p:sp>
          <p:nvSpPr>
            <p:cNvPr id="53" name="Straight Connector 18"/>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9"/>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20"/>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21"/>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5"/>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6"/>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8F0F-BD96-4990-9AC5-B98242DF4996}"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7625-3EDA-4C1D-948F-FB300C57F5D0}"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6725-69B4-426B-85B2-559247D6BFA3}"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30400" y="1905120"/>
            <a:ext cx="5827680" cy="214632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90c226"/>
                </a:solidFill>
                <a:latin typeface="Trebuchet MS"/>
              </a:rPr>
              <a:t>LET’S MOVE!</a:t>
            </a:r>
            <a:br>
              <a:rPr sz="5400"/>
            </a:br>
            <a:r>
              <a:rPr b="0" lang="en-US" sz="3600" spc="-1" strike="noStrike">
                <a:solidFill>
                  <a:srgbClr val="90c226"/>
                </a:solidFill>
                <a:latin typeface="Trebuchet MS"/>
              </a:rPr>
              <a:t>Health and Wellness for Foster Youth</a:t>
            </a:r>
            <a:endParaRPr b="0" lang="en-US" sz="3600" spc="-1" strike="noStrike">
              <a:solidFill>
                <a:srgbClr val="90c226"/>
              </a:solidFill>
              <a:latin typeface="Trebuchet MS"/>
            </a:endParaRPr>
          </a:p>
        </p:txBody>
      </p:sp>
      <p:sp>
        <p:nvSpPr>
          <p:cNvPr id="220"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Trebuchet MS"/>
              </a:rPr>
              <a:t>Aaron Burgess, MSW </a:t>
            </a:r>
            <a:endParaRPr b="0" lang="en-US" sz="2400" spc="-1" strike="noStrike">
              <a:solidFill>
                <a:srgbClr val="404040"/>
              </a:solidFill>
              <a:latin typeface="Trebuchet MS"/>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Trebuchet MS"/>
              </a:rPr>
              <a:t>Certified Group Exercise Instructo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90c226"/>
                </a:solidFill>
                <a:latin typeface="Trebuchet MS"/>
              </a:rPr>
              <a:t>Promoting Positive Youth Development </a:t>
            </a:r>
            <a:endParaRPr b="0" lang="en-US" sz="3200" spc="-1" strike="noStrike">
              <a:solidFill>
                <a:srgbClr val="90c226"/>
              </a:solidFill>
              <a:latin typeface="Trebuchet MS"/>
            </a:endParaRPr>
          </a:p>
        </p:txBody>
      </p:sp>
      <p:sp>
        <p:nvSpPr>
          <p:cNvPr id="239" name=""/>
          <p:cNvSpPr txBox="1"/>
          <p:nvPr/>
        </p:nvSpPr>
        <p:spPr>
          <a:xfrm>
            <a:off x="4632120" y="2155680"/>
            <a:ext cx="3089160" cy="3881520"/>
          </a:xfrm>
          <a:prstGeom prst="rect">
            <a:avLst/>
          </a:prstGeom>
          <a:noFill/>
          <a:ln w="0">
            <a:noFill/>
          </a:ln>
        </p:spPr>
        <p:txBody>
          <a:bodyPr anchor="t">
            <a:normAutofit/>
          </a:bodyPr>
          <a:p>
            <a:pPr marL="343080" indent="-343080">
              <a:spcBef>
                <a:spcPts val="1001"/>
              </a:spcBef>
              <a:buClr>
                <a:srgbClr val="90c226"/>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t>
            </a:r>
            <a:r>
              <a:rPr b="0" lang="en-US" sz="2800" spc="-1" strike="noStrike">
                <a:solidFill>
                  <a:srgbClr val="404040"/>
                </a:solidFill>
                <a:latin typeface="Trebuchet MS"/>
              </a:rPr>
              <a:t>Be active, healthy, and happy!” – </a:t>
            </a:r>
            <a:r>
              <a:rPr b="0" i="1" lang="en-US" sz="2800" spc="-1" strike="noStrike">
                <a:solidFill>
                  <a:srgbClr val="404040"/>
                </a:solidFill>
                <a:latin typeface="Trebuchet MS"/>
              </a:rPr>
              <a:t>Physical Activity Guidelines for Americans</a:t>
            </a:r>
            <a:endParaRPr b="0" lang="en-US" sz="2800" spc="-1" strike="noStrike">
              <a:solidFill>
                <a:srgbClr val="404040"/>
              </a:solidFill>
              <a:latin typeface="Trebuchet MS"/>
            </a:endParaRPr>
          </a:p>
          <a:p>
            <a:pPr marL="343080" indent="-343080">
              <a:spcBef>
                <a:spcPts val="1001"/>
              </a:spcBef>
              <a:buClr>
                <a:srgbClr val="90c226"/>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pic>
        <p:nvPicPr>
          <p:cNvPr id="240" name="Content Placeholder 2" descr=""/>
          <p:cNvPicPr/>
          <p:nvPr/>
        </p:nvPicPr>
        <p:blipFill>
          <a:blip r:embed="rId1"/>
          <a:stretch/>
        </p:blipFill>
        <p:spPr>
          <a:xfrm>
            <a:off x="576360" y="2155680"/>
            <a:ext cx="4056120" cy="313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Effects on Self-Esteem</a:t>
            </a:r>
            <a:endParaRPr b="0" lang="en-US" sz="3600" spc="-1" strike="noStrike">
              <a:solidFill>
                <a:srgbClr val="90c226"/>
              </a:solidFill>
              <a:latin typeface="Trebuchet MS"/>
            </a:endParaRPr>
          </a:p>
        </p:txBody>
      </p:sp>
      <p:sp>
        <p:nvSpPr>
          <p:cNvPr id="24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How do each of these effect a child’s self-esteem?</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Being in foster car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Being overweight/obes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Seeing societal expectations</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26665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Eat Healthy – Food and Nutrition</a:t>
            </a:r>
            <a:endParaRPr b="0" lang="en-US" sz="36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A Balancing Act</a:t>
            </a:r>
            <a:endParaRPr b="0" lang="en-US" sz="3600" spc="-1" strike="noStrike">
              <a:solidFill>
                <a:srgbClr val="90c226"/>
              </a:solidFill>
              <a:latin typeface="Trebuchet MS"/>
            </a:endParaRPr>
          </a:p>
        </p:txBody>
      </p:sp>
      <p:sp>
        <p:nvSpPr>
          <p:cNvPr id="245" name=""/>
          <p:cNvSpPr txBox="1"/>
          <p:nvPr/>
        </p:nvSpPr>
        <p:spPr>
          <a:xfrm>
            <a:off x="609120" y="2160360"/>
            <a:ext cx="3087720" cy="388116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Where is your energy balance?</a:t>
            </a:r>
            <a:endParaRPr b="0" lang="en-US" sz="2800" spc="-1" strike="noStrike">
              <a:solidFill>
                <a:srgbClr val="404040"/>
              </a:solidFill>
              <a:latin typeface="Trebuchet MS"/>
            </a:endParaRPr>
          </a:p>
          <a:p>
            <a:pPr lvl="1" marL="735480" indent="-28296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Maintaining Weight</a:t>
            </a:r>
            <a:endParaRPr b="0" lang="en-US" sz="2800" spc="-1" strike="noStrike">
              <a:solidFill>
                <a:srgbClr val="404040"/>
              </a:solidFill>
              <a:latin typeface="Trebuchet MS"/>
            </a:endParaRPr>
          </a:p>
          <a:p>
            <a:pPr lvl="1" marL="735480" indent="-28296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Losing Weight</a:t>
            </a:r>
            <a:endParaRPr b="0" lang="en-US" sz="2800" spc="-1" strike="noStrike">
              <a:solidFill>
                <a:srgbClr val="404040"/>
              </a:solidFill>
              <a:latin typeface="Trebuchet MS"/>
            </a:endParaRPr>
          </a:p>
          <a:p>
            <a:pPr lvl="1" marL="735480" indent="-28296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Gaining Weight</a:t>
            </a:r>
            <a:endParaRPr b="0" lang="en-US" sz="2800" spc="-1" strike="noStrike">
              <a:solidFill>
                <a:srgbClr val="404040"/>
              </a:solidFill>
              <a:latin typeface="Trebuchet MS"/>
            </a:endParaRPr>
          </a:p>
        </p:txBody>
      </p:sp>
      <p:pic>
        <p:nvPicPr>
          <p:cNvPr id="246" name="Content Placeholder 2" descr=""/>
          <p:cNvPicPr/>
          <p:nvPr/>
        </p:nvPicPr>
        <p:blipFill>
          <a:blip r:embed="rId1"/>
          <a:stretch/>
        </p:blipFill>
        <p:spPr>
          <a:xfrm>
            <a:off x="3886200" y="2286000"/>
            <a:ext cx="3564000" cy="304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5" descr="myplate_magenta"/>
          <p:cNvPicPr/>
          <p:nvPr/>
        </p:nvPicPr>
        <p:blipFill>
          <a:blip r:embed="rId1"/>
          <a:stretch/>
        </p:blipFill>
        <p:spPr>
          <a:xfrm>
            <a:off x="990720" y="838080"/>
            <a:ext cx="5921280" cy="538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Plan for Success</a:t>
            </a:r>
            <a:endParaRPr b="0" lang="en-US" sz="3600" spc="-1" strike="noStrike">
              <a:solidFill>
                <a:srgbClr val="90c226"/>
              </a:solidFill>
              <a:latin typeface="Trebuchet MS"/>
            </a:endParaRPr>
          </a:p>
        </p:txBody>
      </p:sp>
      <p:sp>
        <p:nvSpPr>
          <p:cNvPr id="249" name=""/>
          <p:cNvSpPr txBox="1"/>
          <p:nvPr/>
        </p:nvSpPr>
        <p:spPr>
          <a:xfrm>
            <a:off x="4114440" y="2133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he 3 P’s</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lan</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urchase</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repar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Where to start?</a:t>
            </a:r>
            <a:endParaRPr b="0" lang="en-US" sz="2800" spc="-1" strike="noStrike">
              <a:solidFill>
                <a:srgbClr val="404040"/>
              </a:solidFill>
              <a:latin typeface="Trebuchet MS"/>
            </a:endParaRPr>
          </a:p>
        </p:txBody>
      </p:sp>
      <p:pic>
        <p:nvPicPr>
          <p:cNvPr id="250" name="Content Placeholder 2" descr=""/>
          <p:cNvPicPr/>
          <p:nvPr/>
        </p:nvPicPr>
        <p:blipFill>
          <a:blip r:embed="rId1"/>
          <a:stretch/>
        </p:blipFill>
        <p:spPr>
          <a:xfrm>
            <a:off x="838080" y="2136600"/>
            <a:ext cx="2665440" cy="266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665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90c226"/>
                </a:solidFill>
                <a:latin typeface="Trebuchet MS"/>
              </a:rPr>
              <a:t>Get Active</a:t>
            </a:r>
            <a:endParaRPr b="0" lang="en-US" sz="5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hysical Activity </a:t>
            </a:r>
            <a:endParaRPr b="0" lang="en-US" sz="3600" spc="-1" strike="noStrike">
              <a:solidFill>
                <a:srgbClr val="90c226"/>
              </a:solidFill>
              <a:latin typeface="Trebuchet MS"/>
            </a:endParaRPr>
          </a:p>
        </p:txBody>
      </p:sp>
      <p:sp>
        <p:nvSpPr>
          <p:cNvPr id="253" name=""/>
          <p:cNvSpPr txBox="1"/>
          <p:nvPr/>
        </p:nvSpPr>
        <p:spPr>
          <a:xfrm>
            <a:off x="609120" y="2160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Essential to healthy lifestyl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Prevention</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How much tim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Let’s Move! aim</a:t>
            </a:r>
            <a:endParaRPr b="0" lang="en-US" sz="2800" spc="-1" strike="noStrike">
              <a:solidFill>
                <a:srgbClr val="404040"/>
              </a:solidFill>
              <a:latin typeface="Trebuchet MS"/>
            </a:endParaRPr>
          </a:p>
        </p:txBody>
      </p:sp>
      <p:pic>
        <p:nvPicPr>
          <p:cNvPr id="254" name="Content Placeholder 2" descr=""/>
          <p:cNvPicPr/>
          <p:nvPr/>
        </p:nvPicPr>
        <p:blipFill>
          <a:blip r:embed="rId1"/>
          <a:stretch/>
        </p:blipFill>
        <p:spPr>
          <a:xfrm>
            <a:off x="3668760" y="2362320"/>
            <a:ext cx="3651120" cy="281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Active Families</a:t>
            </a:r>
            <a:endParaRPr b="0" lang="en-US" sz="3600" spc="-1" strike="noStrike">
              <a:solidFill>
                <a:srgbClr val="90c226"/>
              </a:solidFill>
              <a:latin typeface="Trebuchet MS"/>
            </a:endParaRPr>
          </a:p>
        </p:txBody>
      </p:sp>
      <p:sp>
        <p:nvSpPr>
          <p:cNvPr id="25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Fun as family</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Kids who believe they CAN &amp; have the skill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Supportive Support System</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iming Is Everything</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Sleep…zzzz….</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ips</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Take Action</a:t>
            </a:r>
            <a:endParaRPr b="0" lang="en-US" sz="3600" spc="-1" strike="noStrike">
              <a:solidFill>
                <a:srgbClr val="90c226"/>
              </a:solidFill>
              <a:latin typeface="Trebuchet MS"/>
            </a:endParaRPr>
          </a:p>
        </p:txBody>
      </p:sp>
      <p:sp>
        <p:nvSpPr>
          <p:cNvPr id="258" name=""/>
          <p:cNvSpPr txBox="1"/>
          <p:nvPr/>
        </p:nvSpPr>
        <p:spPr>
          <a:xfrm>
            <a:off x="609120" y="2160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How can we set a positive example in our families?</a:t>
            </a:r>
            <a:endParaRPr b="0" lang="en-US" sz="3200" spc="-1" strike="noStrike">
              <a:solidFill>
                <a:srgbClr val="404040"/>
              </a:solidFill>
              <a:latin typeface="Trebuchet MS"/>
            </a:endParaRPr>
          </a:p>
        </p:txBody>
      </p:sp>
      <p:pic>
        <p:nvPicPr>
          <p:cNvPr id="259" name="Content Placeholder 4" descr=""/>
          <p:cNvPicPr/>
          <p:nvPr/>
        </p:nvPicPr>
        <p:blipFill>
          <a:blip r:embed="rId1"/>
          <a:stretch/>
        </p:blipFill>
        <p:spPr>
          <a:xfrm>
            <a:off x="3808440" y="1930320"/>
            <a:ext cx="3521160" cy="331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90c226"/>
                </a:solidFill>
                <a:latin typeface="Trebuchet MS"/>
              </a:rPr>
              <a:t>Training Purpose</a:t>
            </a:r>
            <a:endParaRPr b="0" lang="en-US" sz="4800" spc="-1" strike="noStrike">
              <a:solidFill>
                <a:srgbClr val="90c226"/>
              </a:solidFill>
              <a:latin typeface="Trebuchet MS"/>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Let’s Move! Campaign</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ea typeface="宋体"/>
              </a:rPr>
              <a:t>A comprehensive initiative, launched by the First Lady, dedicated to solving the challenge of childhood obesity within a generation</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5 Simple Steps to Success</a:t>
            </a:r>
            <a:endParaRPr b="0" lang="en-US" sz="3600" spc="-1" strike="noStrike">
              <a:solidFill>
                <a:srgbClr val="90c226"/>
              </a:solidFill>
              <a:latin typeface="Trebuchet MS"/>
            </a:endParaRPr>
          </a:p>
        </p:txBody>
      </p:sp>
      <p:sp>
        <p:nvSpPr>
          <p:cNvPr id="261" name=""/>
          <p:cNvSpPr txBox="1"/>
          <p:nvPr/>
        </p:nvSpPr>
        <p:spPr>
          <a:xfrm>
            <a:off x="609120" y="2160360"/>
            <a:ext cx="6348600" cy="3881160"/>
          </a:xfrm>
          <a:prstGeom prst="rect">
            <a:avLst/>
          </a:prstGeom>
          <a:noFill/>
          <a:ln w="0">
            <a:noFill/>
          </a:ln>
        </p:spPr>
        <p:txBody>
          <a:bodyPr anchor="t">
            <a:normAutofit/>
          </a:bodyPr>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Keep fresh fruit in a bowl within your child’s reach to grab as a snack on the go</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Take a walk with your family after dinner </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Plan a menu for the week</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Turn off the TV during meals and share some family time</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Talk to your PRIDE Coordinator, social worker, or your principal about organizing a school health team.</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6" presetSubtype="16" repeatCount="1000">
                                  <p:stCondLst>
                                    <p:cond delay="0"/>
                                  </p:stCondLst>
                                  <p:childTnLst>
                                    <p:set>
                                      <p:cBhvr>
                                        <p:cTn id="53" dur="1" fill="hold">
                                          <p:stCondLst>
                                            <p:cond delay="0"/>
                                          </p:stCondLst>
                                        </p:cTn>
                                        <p:tgtEl>
                                          <p:spTgt spid="261">
                                            <p:txEl>
                                              <p:pRg st="0" end="0"/>
                                            </p:txEl>
                                          </p:spTgt>
                                        </p:tgtEl>
                                        <p:attrNameLst>
                                          <p:attrName>style.visibility</p:attrName>
                                        </p:attrNameLst>
                                      </p:cBhvr>
                                      <p:to>
                                        <p:strVal val="visible"/>
                                      </p:to>
                                    </p:set>
                                    <p:animEffect filter="circle(in)" transition="in">
                                      <p:cBhvr additive="repl">
                                        <p:cTn id="54" dur="2000"/>
                                        <p:tgtEl>
                                          <p:spTgt spid="261">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6" presetSubtype="16" repeatCount="1000">
                                  <p:stCondLst>
                                    <p:cond delay="0"/>
                                  </p:stCondLst>
                                  <p:childTnLst>
                                    <p:set>
                                      <p:cBhvr>
                                        <p:cTn id="58" dur="1" fill="hold">
                                          <p:stCondLst>
                                            <p:cond delay="0"/>
                                          </p:stCondLst>
                                        </p:cTn>
                                        <p:tgtEl>
                                          <p:spTgt spid="261">
                                            <p:txEl>
                                              <p:pRg st="1" end="1"/>
                                            </p:txEl>
                                          </p:spTgt>
                                        </p:tgtEl>
                                        <p:attrNameLst>
                                          <p:attrName>style.visibility</p:attrName>
                                        </p:attrNameLst>
                                      </p:cBhvr>
                                      <p:to>
                                        <p:strVal val="visible"/>
                                      </p:to>
                                    </p:set>
                                    <p:animEffect filter="circle(in)" transition="in">
                                      <p:cBhvr additive="repl">
                                        <p:cTn id="59" dur="2000"/>
                                        <p:tgtEl>
                                          <p:spTgt spid="261">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6" presetSubtype="16" repeatCount="1000">
                                  <p:stCondLst>
                                    <p:cond delay="0"/>
                                  </p:stCondLst>
                                  <p:childTnLst>
                                    <p:set>
                                      <p:cBhvr>
                                        <p:cTn id="63" dur="1" fill="hold">
                                          <p:stCondLst>
                                            <p:cond delay="0"/>
                                          </p:stCondLst>
                                        </p:cTn>
                                        <p:tgtEl>
                                          <p:spTgt spid="261">
                                            <p:txEl>
                                              <p:pRg st="2" end="2"/>
                                            </p:txEl>
                                          </p:spTgt>
                                        </p:tgtEl>
                                        <p:attrNameLst>
                                          <p:attrName>style.visibility</p:attrName>
                                        </p:attrNameLst>
                                      </p:cBhvr>
                                      <p:to>
                                        <p:strVal val="visible"/>
                                      </p:to>
                                    </p:set>
                                    <p:animEffect filter="circle(in)" transition="in">
                                      <p:cBhvr additive="repl">
                                        <p:cTn id="64" dur="2000"/>
                                        <p:tgtEl>
                                          <p:spTgt spid="261">
                                            <p:txEl>
                                              <p:pRg st="2" end="2"/>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6" presetSubtype="16" repeatCount="1000">
                                  <p:stCondLst>
                                    <p:cond delay="0"/>
                                  </p:stCondLst>
                                  <p:childTnLst>
                                    <p:set>
                                      <p:cBhvr>
                                        <p:cTn id="68" dur="1" fill="hold">
                                          <p:stCondLst>
                                            <p:cond delay="0"/>
                                          </p:stCondLst>
                                        </p:cTn>
                                        <p:tgtEl>
                                          <p:spTgt spid="261">
                                            <p:txEl>
                                              <p:pRg st="3" end="3"/>
                                            </p:txEl>
                                          </p:spTgt>
                                        </p:tgtEl>
                                        <p:attrNameLst>
                                          <p:attrName>style.visibility</p:attrName>
                                        </p:attrNameLst>
                                      </p:cBhvr>
                                      <p:to>
                                        <p:strVal val="visible"/>
                                      </p:to>
                                    </p:set>
                                    <p:animEffect filter="circle(in)" transition="in">
                                      <p:cBhvr additive="repl">
                                        <p:cTn id="69" dur="2000"/>
                                        <p:tgtEl>
                                          <p:spTgt spid="261">
                                            <p:txEl>
                                              <p:pRg st="3" end="3"/>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6" presetSubtype="16" repeatCount="1000">
                                  <p:stCondLst>
                                    <p:cond delay="0"/>
                                  </p:stCondLst>
                                  <p:childTnLst>
                                    <p:set>
                                      <p:cBhvr>
                                        <p:cTn id="73" dur="1" fill="hold">
                                          <p:stCondLst>
                                            <p:cond delay="0"/>
                                          </p:stCondLst>
                                        </p:cTn>
                                        <p:tgtEl>
                                          <p:spTgt spid="261">
                                            <p:txEl>
                                              <p:pRg st="4" end="4"/>
                                            </p:txEl>
                                          </p:spTgt>
                                        </p:tgtEl>
                                        <p:attrNameLst>
                                          <p:attrName>style.visibility</p:attrName>
                                        </p:attrNameLst>
                                      </p:cBhvr>
                                      <p:to>
                                        <p:strVal val="visible"/>
                                      </p:to>
                                    </p:set>
                                    <p:animEffect filter="circle(in)" transition="in">
                                      <p:cBhvr additive="repl">
                                        <p:cTn id="74" dur="2000"/>
                                        <p:tgtEl>
                                          <p:spTgt spid="2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93600"/>
            <a:ext cx="63482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Promoting Positive </a:t>
            </a:r>
            <a:br>
              <a:rPr sz="3600"/>
            </a:br>
            <a:r>
              <a:rPr b="1" lang="en-US" sz="3600" spc="-1" strike="noStrike">
                <a:solidFill>
                  <a:srgbClr val="90c226"/>
                </a:solidFill>
                <a:latin typeface="Trebuchet MS"/>
              </a:rPr>
              <a:t>Self-Esteem</a:t>
            </a:r>
            <a:endParaRPr b="0" lang="en-US" sz="36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Promoting Positivity</a:t>
            </a:r>
            <a:endParaRPr b="0" lang="en-US" sz="3600" spc="-1" strike="noStrike">
              <a:solidFill>
                <a:srgbClr val="90c226"/>
              </a:solidFill>
              <a:latin typeface="Trebuchet MS"/>
            </a:endParaRPr>
          </a:p>
        </p:txBody>
      </p:sp>
      <p:sp>
        <p:nvSpPr>
          <p:cNvPr id="264" name=""/>
          <p:cNvSpPr txBox="1"/>
          <p:nvPr/>
        </p:nvSpPr>
        <p:spPr>
          <a:xfrm>
            <a:off x="609120" y="2160360"/>
            <a:ext cx="3087720" cy="446868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How can we help our children believe in and love themselves?</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Body satisfaction</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No shaming</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Celebrate diversity</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Promote positivity</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What are others?</a:t>
            </a:r>
            <a:endParaRPr b="0" lang="en-US" sz="2200" spc="-1" strike="noStrike">
              <a:solidFill>
                <a:srgbClr val="404040"/>
              </a:solidFill>
              <a:latin typeface="Trebuchet MS"/>
            </a:endParaRPr>
          </a:p>
        </p:txBody>
      </p:sp>
      <p:pic>
        <p:nvPicPr>
          <p:cNvPr id="265" name="Content Placeholder 5" descr=""/>
          <p:cNvPicPr/>
          <p:nvPr/>
        </p:nvPicPr>
        <p:blipFill>
          <a:blip r:embed="rId1"/>
          <a:stretch/>
        </p:blipFill>
        <p:spPr>
          <a:xfrm>
            <a:off x="3962520" y="2160720"/>
            <a:ext cx="3198600" cy="3198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Resources</a:t>
            </a:r>
            <a:endParaRPr b="0" lang="en-US" sz="3600" spc="-1" strike="noStrike">
              <a:solidFill>
                <a:srgbClr val="90c226"/>
              </a:solidFill>
              <a:latin typeface="Trebuchet MS"/>
            </a:endParaRPr>
          </a:p>
        </p:txBody>
      </p:sp>
      <p:sp>
        <p:nvSpPr>
          <p:cNvPr id="267" name=""/>
          <p:cNvSpPr txBox="1"/>
          <p:nvPr/>
        </p:nvSpPr>
        <p:spPr>
          <a:xfrm>
            <a:off x="609120" y="1940040"/>
            <a:ext cx="6172200" cy="18698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Let’s Move! – www.letsmove.gov</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Research Digest – President’s Council on Physical Fitness and Sport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MyPlate – www.choosemyplate.gov</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8" name="Content Placeholder 2" descr=""/>
          <p:cNvPicPr/>
          <p:nvPr/>
        </p:nvPicPr>
        <p:blipFill>
          <a:blip r:embed="rId1"/>
          <a:stretch/>
        </p:blipFill>
        <p:spPr>
          <a:xfrm>
            <a:off x="1295280" y="3819600"/>
            <a:ext cx="5029200" cy="205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200" spc="-1" strike="noStrike">
                <a:solidFill>
                  <a:srgbClr val="90c226"/>
                </a:solidFill>
                <a:latin typeface="Trebuchet MS"/>
              </a:rPr>
              <a:t>THANK YOU!</a:t>
            </a:r>
            <a:endParaRPr b="0" lang="en-US" sz="7200" spc="-1" strike="noStrike">
              <a:solidFill>
                <a:srgbClr val="90c226"/>
              </a:solidFill>
              <a:latin typeface="Trebuchet MS"/>
            </a:endParaRPr>
          </a:p>
        </p:txBody>
      </p:sp>
      <p:pic>
        <p:nvPicPr>
          <p:cNvPr id="270" name="Content Placeholder 2" descr=""/>
          <p:cNvPicPr/>
          <p:nvPr/>
        </p:nvPicPr>
        <p:blipFill>
          <a:blip r:embed="rId1"/>
          <a:stretch/>
        </p:blipFill>
        <p:spPr>
          <a:xfrm>
            <a:off x="1843200" y="2160720"/>
            <a:ext cx="3881160" cy="3881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609120"/>
            <a:ext cx="73152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90c226"/>
                </a:solidFill>
                <a:latin typeface="Trebuchet MS"/>
              </a:rPr>
              <a:t>Training Goals and Objectives</a:t>
            </a:r>
            <a:endParaRPr b="0" lang="en-US" sz="4000" spc="-1" strike="noStrike">
              <a:solidFill>
                <a:srgbClr val="90c226"/>
              </a:solidFill>
              <a:latin typeface="Trebuchet MS"/>
            </a:endParaRPr>
          </a:p>
        </p:txBody>
      </p:sp>
      <p:sp>
        <p:nvSpPr>
          <p:cNvPr id="224" name=""/>
          <p:cNvSpPr txBox="1"/>
          <p:nvPr/>
        </p:nvSpPr>
        <p:spPr>
          <a:xfrm>
            <a:off x="609120" y="1523520"/>
            <a:ext cx="6705720" cy="487692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facts and key information regarding childhood obesity and the impact of childhood obesity on youth today.</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the positive youth development perspective a theoretical framework for fostering competencies in youth rather than as problems to be managed.</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key information regarding food, nutrition, and physical activity related to healthy youth development and develop focused intervention strategies for aiding foster youth on a trajectory of healthy living. </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istinguish responsibilities between key stakeholders for promoting healthy lifestyle development for foster youth.</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reate an action plan with specific steps and tasks for aiding vulnerable foster children and youth, incorporating the </a:t>
            </a:r>
            <a:r>
              <a:rPr b="0" i="1" lang="en-US" sz="1800" spc="-1" strike="noStrike">
                <a:solidFill>
                  <a:srgbClr val="404040"/>
                </a:solidFill>
                <a:latin typeface="Trebuchet MS"/>
              </a:rPr>
              <a:t>Let’s Move!</a:t>
            </a:r>
            <a:r>
              <a:rPr b="0" lang="en-US" sz="1800" spc="-1" strike="noStrike">
                <a:solidFill>
                  <a:srgbClr val="404040"/>
                </a:solidFill>
                <a:latin typeface="Trebuchet MS"/>
              </a:rPr>
              <a:t> national campaign strategy.  </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resources pertaining to childhood obesity and the </a:t>
            </a:r>
            <a:r>
              <a:rPr b="0" i="1" lang="en-US" sz="1800" spc="-1" strike="noStrike">
                <a:solidFill>
                  <a:srgbClr val="404040"/>
                </a:solidFill>
                <a:latin typeface="Trebuchet MS"/>
              </a:rPr>
              <a:t>Let’s Move!</a:t>
            </a:r>
            <a:r>
              <a:rPr b="0" lang="en-US" sz="1800" spc="-1" strike="noStrike">
                <a:solidFill>
                  <a:srgbClr val="404040"/>
                </a:solidFill>
                <a:latin typeface="Trebuchet MS"/>
              </a:rPr>
              <a:t> campaign.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Guiding Principles</a:t>
            </a:r>
            <a:endParaRPr b="0" lang="en-US" sz="3600" spc="-1" strike="noStrike">
              <a:solidFill>
                <a:srgbClr val="90c226"/>
              </a:solidFill>
              <a:latin typeface="Trebuchet MS"/>
            </a:endParaRPr>
          </a:p>
        </p:txBody>
      </p:sp>
      <p:sp>
        <p:nvSpPr>
          <p:cNvPr id="226" name=""/>
          <p:cNvSpPr txBox="1"/>
          <p:nvPr/>
        </p:nvSpPr>
        <p:spPr>
          <a:xfrm>
            <a:off x="609120" y="2160360"/>
            <a:ext cx="3087720" cy="3881160"/>
          </a:xfrm>
          <a:prstGeom prst="rect">
            <a:avLst/>
          </a:prstGeom>
          <a:noFill/>
          <a:ln w="0">
            <a:noFill/>
          </a:ln>
        </p:spPr>
        <p:txBody>
          <a:bodyPr anchor="t">
            <a:normAutofit fontScale="97000"/>
          </a:bodyPr>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Foster a safe space</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Respect differences</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Respect confidentiality</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Share air time </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Grant amnesty</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All questions are OK</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Keep an open mind</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Use I-Statements</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Have fun!</a:t>
            </a:r>
            <a:endParaRPr b="0" lang="en-US" sz="2200" spc="-1" strike="noStrike">
              <a:solidFill>
                <a:srgbClr val="404040"/>
              </a:solidFill>
              <a:latin typeface="Trebuchet MS"/>
            </a:endParaRPr>
          </a:p>
        </p:txBody>
      </p:sp>
      <p:pic>
        <p:nvPicPr>
          <p:cNvPr id="227" name="Content Placeholder 3" descr=""/>
          <p:cNvPicPr/>
          <p:nvPr/>
        </p:nvPicPr>
        <p:blipFill>
          <a:blip r:embed="rId1"/>
          <a:stretch/>
        </p:blipFill>
        <p:spPr>
          <a:xfrm>
            <a:off x="4267080" y="2160720"/>
            <a:ext cx="3716280" cy="371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circle(in)" transition="in">
                                      <p:cBhvr additive="repl">
                                        <p:cTn id="7" dur="2000"/>
                                        <p:tgtEl>
                                          <p:spTgt spid="22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circle(in)" transition="in">
                                      <p:cBhvr additive="repl">
                                        <p:cTn id="12" dur="2000"/>
                                        <p:tgtEl>
                                          <p:spTgt spid="22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226">
                                            <p:txEl>
                                              <p:pRg st="2" end="2"/>
                                            </p:txEl>
                                          </p:spTgt>
                                        </p:tgtEl>
                                        <p:attrNameLst>
                                          <p:attrName>style.visibility</p:attrName>
                                        </p:attrNameLst>
                                      </p:cBhvr>
                                      <p:to>
                                        <p:strVal val="visible"/>
                                      </p:to>
                                    </p:set>
                                    <p:animEffect filter="circle(in)" transition="in">
                                      <p:cBhvr additive="repl">
                                        <p:cTn id="17" dur="2000"/>
                                        <p:tgtEl>
                                          <p:spTgt spid="22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26">
                                            <p:txEl>
                                              <p:pRg st="3" end="3"/>
                                            </p:txEl>
                                          </p:spTgt>
                                        </p:tgtEl>
                                        <p:attrNameLst>
                                          <p:attrName>style.visibility</p:attrName>
                                        </p:attrNameLst>
                                      </p:cBhvr>
                                      <p:to>
                                        <p:strVal val="visible"/>
                                      </p:to>
                                    </p:set>
                                    <p:animEffect filter="circle(in)" transition="in">
                                      <p:cBhvr additive="repl">
                                        <p:cTn id="22" dur="2000"/>
                                        <p:tgtEl>
                                          <p:spTgt spid="226">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226">
                                            <p:txEl>
                                              <p:pRg st="4" end="4"/>
                                            </p:txEl>
                                          </p:spTgt>
                                        </p:tgtEl>
                                        <p:attrNameLst>
                                          <p:attrName>style.visibility</p:attrName>
                                        </p:attrNameLst>
                                      </p:cBhvr>
                                      <p:to>
                                        <p:strVal val="visible"/>
                                      </p:to>
                                    </p:set>
                                    <p:animEffect filter="circle(in)" transition="in">
                                      <p:cBhvr additive="repl">
                                        <p:cTn id="27" dur="2000"/>
                                        <p:tgtEl>
                                          <p:spTgt spid="226">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226">
                                            <p:txEl>
                                              <p:pRg st="5" end="5"/>
                                            </p:txEl>
                                          </p:spTgt>
                                        </p:tgtEl>
                                        <p:attrNameLst>
                                          <p:attrName>style.visibility</p:attrName>
                                        </p:attrNameLst>
                                      </p:cBhvr>
                                      <p:to>
                                        <p:strVal val="visible"/>
                                      </p:to>
                                    </p:set>
                                    <p:animEffect filter="circle(in)" transition="in">
                                      <p:cBhvr additive="repl">
                                        <p:cTn id="32" dur="2000"/>
                                        <p:tgtEl>
                                          <p:spTgt spid="226">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226">
                                            <p:txEl>
                                              <p:pRg st="6" end="6"/>
                                            </p:txEl>
                                          </p:spTgt>
                                        </p:tgtEl>
                                        <p:attrNameLst>
                                          <p:attrName>style.visibility</p:attrName>
                                        </p:attrNameLst>
                                      </p:cBhvr>
                                      <p:to>
                                        <p:strVal val="visible"/>
                                      </p:to>
                                    </p:set>
                                    <p:animEffect filter="circle(in)" transition="in">
                                      <p:cBhvr additive="repl">
                                        <p:cTn id="37" dur="2000"/>
                                        <p:tgtEl>
                                          <p:spTgt spid="226">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226">
                                            <p:txEl>
                                              <p:pRg st="7" end="7"/>
                                            </p:txEl>
                                          </p:spTgt>
                                        </p:tgtEl>
                                        <p:attrNameLst>
                                          <p:attrName>style.visibility</p:attrName>
                                        </p:attrNameLst>
                                      </p:cBhvr>
                                      <p:to>
                                        <p:strVal val="visible"/>
                                      </p:to>
                                    </p:set>
                                    <p:animEffect filter="circle(in)" transition="in">
                                      <p:cBhvr additive="repl">
                                        <p:cTn id="42" dur="2000"/>
                                        <p:tgtEl>
                                          <p:spTgt spid="226">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226">
                                            <p:txEl>
                                              <p:pRg st="8" end="8"/>
                                            </p:txEl>
                                          </p:spTgt>
                                        </p:tgtEl>
                                        <p:attrNameLst>
                                          <p:attrName>style.visibility</p:attrName>
                                        </p:attrNameLst>
                                      </p:cBhvr>
                                      <p:to>
                                        <p:strVal val="visible"/>
                                      </p:to>
                                    </p:set>
                                    <p:animEffect filter="circle(in)" transition="in">
                                      <p:cBhvr additive="repl">
                                        <p:cTn id="47" dur="2000"/>
                                        <p:tgtEl>
                                          <p:spTgt spid="2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66520"/>
            <a:ext cx="6348600" cy="1016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90c226"/>
                </a:solidFill>
                <a:latin typeface="Trebuchet MS"/>
              </a:rPr>
              <a:t>Learn the Facts</a:t>
            </a:r>
            <a:endParaRPr b="0" lang="en-US" sz="48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e physical and emotional health of an entire generation and the economic health and security of our nation is at stake."  - </a:t>
            </a:r>
            <a:r>
              <a:rPr b="0" lang="en-US" sz="2400" spc="-1" strike="noStrike">
                <a:solidFill>
                  <a:srgbClr val="404040"/>
                </a:solidFill>
                <a:latin typeface="Trebuchet MS"/>
              </a:rPr>
              <a:t>First Lady Michelle Obama at the Let’s Move! launch on February 9, 2010</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Obesity by the Numbers</a:t>
            </a:r>
            <a:endParaRPr b="0" lang="en-US" sz="3600" spc="-1" strike="noStrike">
              <a:solidFill>
                <a:srgbClr val="90c226"/>
              </a:solidFill>
              <a:latin typeface="Trebuchet MS"/>
            </a:endParaRPr>
          </a:p>
        </p:txBody>
      </p:sp>
      <p:sp>
        <p:nvSpPr>
          <p:cNvPr id="231" name=""/>
          <p:cNvSpPr txBox="1"/>
          <p:nvPr/>
        </p:nvSpPr>
        <p:spPr>
          <a:xfrm>
            <a:off x="609120" y="2160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3/3</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1 in 3</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40%</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One third</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dditional problems</a:t>
            </a:r>
            <a:endParaRPr b="0" lang="en-US" sz="2800" spc="-1" strike="noStrike">
              <a:solidFill>
                <a:srgbClr val="404040"/>
              </a:solidFill>
              <a:latin typeface="Trebuchet MS"/>
            </a:endParaRPr>
          </a:p>
        </p:txBody>
      </p:sp>
      <p:pic>
        <p:nvPicPr>
          <p:cNvPr id="232" name="Content Placeholder 3" descr=""/>
          <p:cNvPicPr/>
          <p:nvPr/>
        </p:nvPicPr>
        <p:blipFill>
          <a:blip r:embed="rId1"/>
          <a:stretch/>
        </p:blipFill>
        <p:spPr>
          <a:xfrm>
            <a:off x="3962520" y="2286000"/>
            <a:ext cx="3292200" cy="286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0120" y="623880"/>
            <a:ext cx="63482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How Did We Get Here?</a:t>
            </a:r>
            <a:endParaRPr b="0" lang="en-US" sz="3600" spc="-1" strike="noStrike">
              <a:solidFill>
                <a:srgbClr val="90c226"/>
              </a:solidFill>
              <a:latin typeface="Trebuchet MS"/>
            </a:endParaRPr>
          </a:p>
        </p:txBody>
      </p:sp>
      <p:sp>
        <p:nvSpPr>
          <p:cNvPr id="234" name=""/>
          <p:cNvSpPr txBox="1"/>
          <p:nvPr/>
        </p:nvSpPr>
        <p:spPr>
          <a:xfrm>
            <a:off x="4038120" y="1944720"/>
            <a:ext cx="3087720" cy="38815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30 years ago</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oday</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Portion size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Caloric intak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7.5 hours (18 year old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Good New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pic>
        <p:nvPicPr>
          <p:cNvPr id="235" name="Content Placeholder 2" descr=""/>
          <p:cNvPicPr/>
          <p:nvPr/>
        </p:nvPicPr>
        <p:blipFill>
          <a:blip r:embed="rId1"/>
          <a:stretch/>
        </p:blipFill>
        <p:spPr>
          <a:xfrm>
            <a:off x="380880" y="19447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Discussion</a:t>
            </a:r>
            <a:endParaRPr b="0" lang="en-US" sz="3600" spc="-1" strike="noStrike">
              <a:solidFill>
                <a:srgbClr val="90c226"/>
              </a:solidFill>
              <a:latin typeface="Trebuchet MS"/>
            </a:endParaRPr>
          </a:p>
        </p:txBody>
      </p:sp>
      <p:sp>
        <p:nvSpPr>
          <p:cNvPr id="237" name=""/>
          <p:cNvSpPr txBox="1"/>
          <p:nvPr/>
        </p:nvSpPr>
        <p:spPr>
          <a:xfrm>
            <a:off x="837720" y="2057400"/>
            <a:ext cx="6348600" cy="38815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ea typeface="宋体"/>
              </a:rPr>
              <a:t>What are some of the unique challenges foster youth fac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宋体"/>
              </a:rPr>
              <a:t>In getting exercis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宋体"/>
              </a:rPr>
              <a:t>In eating well?</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宋体"/>
              </a:rPr>
              <a:t>In developing good body image?</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5T11:04:33Z</dcterms:created>
  <dc:creator>Aaron</dc:creator>
  <dc:description/>
  <dc:language>en-US</dc:language>
  <cp:lastModifiedBy>Concord University</cp:lastModifiedBy>
  <dcterms:modified xsi:type="dcterms:W3CDTF">2015-07-01T19:46:13Z</dcterms:modified>
  <cp:revision>16</cp:revision>
  <dc:subject/>
  <dc:title>LET’S MOVE! Health and Wellness for Foster Youth</dc:title>
</cp:coreProperties>
</file>